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34F-3FF4-45B9-B7CD-EA1F6C3B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1A1-A93F-4A78-B30E-5268F989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7C8-023E-4517-AE40-C99F0B69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EDF-665D-4B89-BE43-6E9CECE7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EDD-C9BE-4FDA-9924-0F478F8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2CB-B83A-4CB8-ADF4-41FCCDE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D5A-AC03-4E0A-93C4-6E6B207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B29-2ACF-491C-9071-A56D9CD2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87B-08F4-4E4E-93D1-FB21996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32D-7C4E-46F1-B0CA-1A0707E0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5EC-FF8A-4E6B-BADA-FB746FE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C85-B51C-42BE-8568-14A1258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91D4-20BC-4C9F-8EA7-96CDDD474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项目管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人人都可以做项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质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量管理体系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A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品质保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成为一个项目经理的条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权力等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1844640"/>
            <a:ext cx="5427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是项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是项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目生命周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目管理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为一个项目经理的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什么是项目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为提供某项独特产品、服务或成果所做的临时性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什么是项目管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项目管理就是把知识、技能、工具和技术运用到广泛的工作中，以便满足特定项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识别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定清楚而又能够实现的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权衡质量、范围、时间和费用方面互不相让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技术规定说明书、计划和方法适用于各种各样利害关系者的不同需求与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项目生命周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8485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项目生命周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24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项目管理三要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成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沟通成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施成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定开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进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PD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334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1:22:31Z</dcterms:created>
  <dc:creator>setupcn</dc:creator>
  <dc:description/>
  <dc:language>en-US</dc:language>
  <cp:lastModifiedBy>setupcn</cp:lastModifiedBy>
  <dcterms:modified xsi:type="dcterms:W3CDTF">2008-07-09T08:27:10Z</dcterms:modified>
  <cp:revision>81</cp:revision>
  <dc:subject/>
  <dc:title>幻灯片 1</dc:title>
</cp:coreProperties>
</file>